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0333-8C2E-4F89-B5B2-BB87F0144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9D0F-B8E9-4679-9043-8225531AC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191A-9FC1-4401-973B-E80208F85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2418-6376-4E66-9FB5-FD59FEEBA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62ED-6565-4D03-9A49-68537923E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4D36-24BF-4FA6-BD6A-1ACF0DAC0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DD34-32F4-4B7A-9E4D-75D5986B9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DDDF-BA0B-4E40-996F-FE410EC88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34BB-C628-46B2-A2C5-040E9F3A9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3ACC-5609-41B6-A371-D5ADF6844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F8BF-38A1-44A1-ABC6-125328AAD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73D8-860E-4CF4-A97D-D9C71CE3C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06D2-F164-48E2-8084-2D8082A4C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33C8-EC56-430F-AC21-E580CBAD9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372A-EFB9-4DA2-97A0-97750FA2C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028-BAA0-43A6-B2D9-36398B58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DD1-2284-44A4-9781-D1082E99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7C2-7336-47D6-AEE6-2260A5B0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8CC-35AE-4C5F-9A78-4E1CA13B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943-5687-484F-97DD-4A7BD96E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1B3-65C6-4637-83F6-6485B400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2250-4ABE-484F-81C4-AB535C16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131-79AB-48AE-B27F-048FED08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F83-76E3-4BD1-94E6-FC947EE8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A05-DB5C-479E-AE89-D98AFBDB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98A-BF56-49B1-8FAE-8BC48609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20E-0235-44E1-A591-ABD49AF8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9C1B-9CEB-4E12-8A82-B7AE30CEE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Style Sheets for Accessi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ston-IA September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5520" y="441360"/>
            <a:ext cx="330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el Sklar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16360" y="685800"/>
            <a:ext cx="45655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647712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3 WAI Guid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direct accessibility of embedded user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for device independ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im sol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W3C technologies and guideli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context and orientation infor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clear navigation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documents are clear and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S Accessibility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media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contr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acing, alignment, positioning contr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-centric style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ral style she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86200" y="2362320"/>
            <a:ext cx="2133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S Style She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133720"/>
            <a:ext cx="21337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-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2703600"/>
            <a:ext cx="1371600" cy="179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/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433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3352680"/>
            <a:ext cx="10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2895480"/>
            <a:ext cx="569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3048120"/>
            <a:ext cx="569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200400"/>
            <a:ext cx="569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562720" y="228564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8098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0492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1371600"/>
            <a:ext cx="20574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o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h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84600" y="574200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@media screen {body  {color: black;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for Accessi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your aud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e assistive devices and learn to use th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de on interim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lude accessibility in your testing regi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for Accessi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t to well-formed HTML 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ove embedded display inf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force consistency in document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oid element mis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BIG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76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bility improv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 satisf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care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6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ng acces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the guide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ing for acces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ing with style she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BIG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0880"/>
            <a:ext cx="78483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BIG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80880"/>
            <a:ext cx="78483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781680" cy="4721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ng Acces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6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content that is accessible despite any physical, sensory, and cognitive disabilities, work constraints or technological barri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bility and Acces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ability problems impact all users equ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bility problems impact people with dis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360" y="6095880"/>
            <a:ext cx="306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cher, Constructing Accessible Web Sites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Design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ML coding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aration of structure and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s for data, not lay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stent design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wards compat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Business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764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access for people with disabilities and the elderly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greater usability for non-disabled Web users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s technical performance 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an organization's commitment to social responsibility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organizations avoid li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3 WAI Guid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764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equivalent alternatives to auditory and visual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rely on color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arkup and style sheets and do so prop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natural language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ables that transform grac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pages featuring new technologies transform gracefu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user control of time-sensitive content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400" y="6400800"/>
            <a:ext cx="799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7040" y="638496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elskl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80880"/>
            <a:ext cx="784872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3:37:29Z</dcterms:created>
  <dc:creator>Joel Sklar</dc:creator>
  <dc:description/>
  <dc:language>en-US</dc:language>
  <cp:lastModifiedBy>Joel Sklar</cp:lastModifiedBy>
  <dcterms:modified xsi:type="dcterms:W3CDTF">2003-09-30T17:02:07Z</dcterms:modified>
  <cp:revision>136</cp:revision>
  <dc:subject/>
  <dc:title>No Slide Title</dc:title>
</cp:coreProperties>
</file>